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ED561F1-F1C4-4178-B576-582FDEC12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01C-5CDB-413F-B113-8CCC7D82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D48-4138-4FF8-987E-0A96815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014-B17E-465F-869C-B21BA710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E3F-9A40-4DD0-91D4-7ACE8294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7E15-0EE9-42C5-9E60-3EC84A8F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605-3508-42A7-B1BC-7DD48598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AAB3-6399-411E-BEE6-3D8BA894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5AE3-8752-4354-A710-1FE70AF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6FC-C8DF-4080-AC69-6021F5C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1625-292E-478A-A324-1E21EA98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7064-4AFB-4CFC-A377-22D80E2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91B-4049-4B61-BE4E-82DC2758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B1F6-E44F-40B2-BFDE-64A9FAD4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F87-2426-4AEB-9AD7-C4E12629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1B7-13E3-4CD5-BD73-584EC64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63B9-261C-49A7-8417-7481DC0D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D1A2-180F-435F-AAD1-54F16DEF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224-7815-4485-81CD-2473765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5DF-1E78-4BC1-8DAD-3A600BE6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363-810A-441B-A7FF-DDD91732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F19-D93B-448E-9BFF-0E3DD400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F25-9AE4-492B-BB58-BDD48168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D61-6B43-4BC0-94A1-048FC4C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2C6-C768-4EF8-9207-D38A5DE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7F4-5986-4A4B-8FB4-DE70D3B435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167-6F57-4AE2-8DFC-7CB1341650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600" spc="-1" strike="noStrike">
                <a:solidFill>
                  <a:srgbClr val="ffff99"/>
                </a:solidFill>
                <a:latin typeface="Broadway"/>
              </a:rPr>
              <a:t>Monday, November 8, 2010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Write a conjecture based on the circumstance: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gina has earned an A on each of her last five math exams and has studied hoard for her sixt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3.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allel Lines and Transvers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Lesson 3.3, problems 1-2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200" spc="-1" strike="noStrike">
                <a:solidFill>
                  <a:srgbClr val="ffff99"/>
                </a:solidFill>
                <a:latin typeface="Broadway"/>
              </a:rPr>
              <a:t>Wednesday, November 10, 2010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 conjecture based on the circumstance: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e skateboarder has worked a flip into his last 11 ramp competi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HW 3.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Properties of Parallel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Page 149, QUIZ 1, problems 1-4, 6-8, WS 3.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15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 Assignment: Lesson 3.4, problems 1-2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10T19:58:15Z</dcterms:modified>
  <cp:revision>59</cp:revision>
  <dc:subject/>
  <dc:title>Slide 1</dc:title>
</cp:coreProperties>
</file>